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58E-00BE-47CE-A2C3-EAE84287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8B2-8148-4958-ABD1-E470F0CA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681-4168-4527-B547-5EB9DB34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350-56D5-44BF-9DDA-9C384CB7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2B0-3041-4025-88DE-50AF1853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C00-7E97-4FA7-B5BB-B47F08BE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645-98DA-419E-AB7A-95B1584A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2D4-4AF4-4746-AB1D-21892D5C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C8E-B11A-4793-9FF6-F9F5C6F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A97-4DEB-470A-BF17-6079185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431-071A-461C-8CB4-63E0372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294-E4FD-4759-8D9A-D1894C9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DC32-A5D5-4A70-9EC3-7C2EA57B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иоэкологическая характеристика класса рыб; их многообразие в зависимости от биотипов (ручей, болото, бассейн тропических рек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расимов И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Отряд кефалеобраз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емейство атериниды (Радужная рыбка,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Бедо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Отряд сростночелюст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дотряд фах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Семейство четырехзубы (Куткут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2781360"/>
            <a:ext cx="55245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ыбы — наиболее древняя группа позвоночных животных. Первые рыбы появились на Земле свыше 300 млн. лет назад, в конце силурийского периода. Они населяют большинство водоемов земного шара, обитая в самых различных условиях. Длительное эволюционное развитие и приспособление к жизни в очень несходных условиях привело к чрезвычайному многообразию форм ры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Близкие друг к другу по родству, а вместе с тем и по сходству виды объединяются в систематическую единицу — род. Научное название вида обозначается двумя словами, первое из них указывает род, второе — собственно видовое. Кроме того, пишется фамилия автора, впервые описавшего данный вид, и год, когда он был описан. В некоторых случаях, когда вид разделяется на хорошо различимые группы — подвиды, после видового названия пишется наименование под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Роды объединяются в подсемейства, подсемейства — в семейства, семейства — в надсемейства, далее — в подотряды, отряды, подклассы и, наконец, в класс ры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cc"/>
                </a:solidFill>
                <a:latin typeface="Arial"/>
              </a:rPr>
              <a:t>Отряд сельдеобразные</a:t>
            </a: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Подотряд рыбы-бабочки (Пантод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Подотряд нотоптерусовидные </a:t>
            </a:r>
            <a:r>
              <a:rPr b="0" i="1" lang="ru-RU" sz="3200" spc="-1" strike="noStrike">
                <a:solidFill>
                  <a:srgbClr val="99ffcc"/>
                </a:solidFill>
                <a:latin typeface="Arial"/>
              </a:rPr>
              <a:t>Семейство нотоптерусы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(Рыба-но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067280" cy="308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381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Отряд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ормирообразны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дотряд мормиридовидные </a:t>
            </a:r>
            <a:r>
              <a:rPr b="0" i="1" lang="ru-RU" sz="3200" spc="-1" strike="noStrike">
                <a:solidFill>
                  <a:srgbClr val="0033cc"/>
                </a:solidFill>
                <a:latin typeface="Arial"/>
              </a:rPr>
              <a:t>Семейство Мормириды (Рыба-сл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52322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Arial"/>
              </a:rPr>
              <a:t>Отряд карпообразные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Подотряд харацин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харациниды (Тетра фон рио, Грими,</a:t>
            </a: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рпа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аностомиды (Аностомус обыкновенный, Хилоду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гастеропелециды (Карнегие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цитариниды (Наннэтиопс, Неолебиа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Подотряд карпови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карповые (Пунтиус (барбус) черный,</a:t>
            </a: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Пунтиус (барбус) зеленый,</a:t>
            </a: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Данио рери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гиринохайлиды (Гиринохайлу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Подотряд сомови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Семейство калихтииды (Калихт, Дианема, Сомик крапч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Семейство лорикарииды (Присос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Семейство прозрачные сомы (Стеклянный соми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64816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95640" y="4991040"/>
            <a:ext cx="28810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Отряд карпозубые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одотряд карпозубови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адсемейство икромечущие карпозубые (Эпиплатис Шапера, Панхакс, Афиосемион юж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адсемейство живородящие карпозуб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емейство пецилиды (Белонесокс, Гамбузия, Формо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59280" y="4797360"/>
            <a:ext cx="4103640" cy="1874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258920" y="4780080"/>
            <a:ext cx="28083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Отряд сарганообразные</a:t>
            </a:r>
            <a:r>
              <a:rPr b="0" lang="ru-RU" sz="4400" spc="-1" strike="noStrike">
                <a:solidFill>
                  <a:srgbClr val="99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cc"/>
                </a:solidFill>
                <a:latin typeface="Arial"/>
              </a:rPr>
              <a:t>Семейство полурылы (Дермогенис)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55450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66"/>
                </a:solidFill>
                <a:latin typeface="Arial"/>
              </a:rPr>
              <a:t>Отряд окунеобразные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5410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55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Подотряд окуневид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ушастые окуни (Дисковидный окунь, Бриллиантовый оку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центропомиды  (Стеклянный оку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цихлиды  (Акара голубовато-пятнистая, Наннакара аномала, Мезонаут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нандовые (Рыба-хамелеон, Рыба-обруб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анабантиды (Рыба-ползун, Петушок, Колиза полосата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Подотряд лабиринт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Подотряд бы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элеотрисы</a:t>
            </a:r>
            <a:r>
              <a:rPr b="0" lang="en-US" sz="2200" spc="-1" strike="noStrike">
                <a:solidFill>
                  <a:srgbClr val="66ff66"/>
                </a:solidFill>
                <a:latin typeface="Arial"/>
              </a:rPr>
              <a:t> (Ротан</a:t>
            </a: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бычки (Брахигобиус ксантозо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прыгуны (Прыгу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737080" cy="188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940360" y="1341360"/>
            <a:ext cx="25923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7:10:22Z</dcterms:created>
  <dc:creator>User</dc:creator>
  <dc:description/>
  <dc:language>en-US</dc:language>
  <cp:lastModifiedBy>User</cp:lastModifiedBy>
  <dcterms:modified xsi:type="dcterms:W3CDTF">2010-05-21T18:54:19Z</dcterms:modified>
  <cp:revision>6</cp:revision>
  <dc:subject/>
  <dc:title>Биоэкологическая характеристика класса рыб; их многообразие в зависимости от биотипов (ручей, болото, бассейн тропических рек). </dc:title>
</cp:coreProperties>
</file>